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1.png" ContentType="image/png"/>
  <Override PartName="/ppt/media/image2.jpeg" ContentType="image/jpeg"/>
  <Override PartName="/ppt/media/image5.jpeg" ContentType="image/jpeg"/>
  <Override PartName="/ppt/media/image9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10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C017A-D791-4B42-B6EB-F178076CF4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D294C-6E5B-42B5-943D-E9340849E970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991DA-82BE-4727-864B-445EF33AA9BB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73BA5-0AA1-4C7A-A2C0-D00C1AFA8767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though Google Docs &amp; Spreadsheets (http://docs.google.com) is currently the recommended online collaborative editing Web site, add the URL of the Web site you have chosen to us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A68CC-514D-4CC2-83CD-C5379BFC1690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80ABD-FBD4-42CF-8393-1DED4C7DF606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7518B-E3E9-488D-9304-E96B1EA10D30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o-RO" sz="1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BC153-8180-440E-9052-AEF5B73F52DD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95769-7394-48E0-9030-8747FB123E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188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07BC8-76B9-488B-808B-AAC2908080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2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F1737-B029-47D6-BE4F-F794AD4B04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68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21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188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68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21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DCFEC-5B79-412A-A38E-B946C71525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46A2D-EE10-46D1-99D1-CF832904B5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2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188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2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68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321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188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68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321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3F736-E3A4-41A7-8FB5-63AAA16484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F82BC-FC69-4B38-9652-833341A1B0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F3FCD-7006-4B93-B4A6-0B427AB8AC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8652F-D364-487F-8319-50746A9386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DE724-535F-461D-A2B7-837E109A0E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2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75C2F-CED1-4203-8F6B-557CA82380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CBB24-91ED-45DC-A56F-00126C1F3A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281160" indent="-281160">
              <a:spcBef>
                <a:spcPts val="2401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  <a:p>
            <a:pPr lvl="1" marL="201600" indent="-200520">
              <a:spcBef>
                <a:spcPts val="24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  <a:p>
            <a:pPr lvl="2" marL="468720" indent="-265680">
              <a:spcBef>
                <a:spcPts val="2401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  <a:p>
            <a:pPr lvl="3" marL="594720" indent="-124560">
              <a:spcBef>
                <a:spcPts val="2401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  <a:p>
            <a:pPr lvl="4" marL="931680" indent="-335520">
              <a:spcBef>
                <a:spcPts val="2401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  <a:p>
            <a:pPr lvl="5" marL="931680" indent="-335520">
              <a:spcBef>
                <a:spcPts val="24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  <a:p>
            <a:pPr lvl="6" marL="931680" indent="-335520">
              <a:spcBef>
                <a:spcPts val="24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5400" y="6357600"/>
            <a:ext cx="41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0E38E-5AF8-49ED-9098-0757B9DFD6B5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26"/>
          <p:cNvSpPr/>
          <p:nvPr/>
        </p:nvSpPr>
        <p:spPr>
          <a:xfrm>
            <a:off x="1055520" y="6230880"/>
            <a:ext cx="5811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ffffff"/>
                </a:solidFill>
                <a:latin typeface="Verdana"/>
                <a:ea typeface="Times New Roman"/>
              </a:rPr>
              <a:t>Copyright® 2006 Corporaţia Intel. Toate drepturile rezervate. Intel şi Intel Education sunt mărci sau mărci înregistrate ale Corporaţiei Intel sau ale filialelor sale în Statele Unite sau alte ţări.* Alte nume sau mărci pot fi reclamate ca proprietăţi ale terţilor</a:t>
            </a:r>
            <a:r>
              <a:rPr b="0" lang="en-GB" sz="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" name="Picture 27" descr="intelEDU_wht_lrg [Converted]"/>
          <p:cNvPicPr/>
          <p:nvPr/>
        </p:nvPicPr>
        <p:blipFill>
          <a:blip r:embed="rId2"/>
          <a:stretch/>
        </p:blipFill>
        <p:spPr>
          <a:xfrm>
            <a:off x="7547040" y="6178680"/>
            <a:ext cx="1116000" cy="556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32"/>
          <p:cNvSpPr/>
          <p:nvPr/>
        </p:nvSpPr>
        <p:spPr>
          <a:xfrm>
            <a:off x="1055520" y="6242040"/>
            <a:ext cx="6015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281160" indent="-281160">
              <a:spcBef>
                <a:spcPts val="2401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  <a:p>
            <a:pPr lvl="1" marL="201600" indent="-200520">
              <a:spcBef>
                <a:spcPts val="24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  <a:p>
            <a:pPr lvl="2" marL="468720" indent="-265680">
              <a:spcBef>
                <a:spcPts val="2401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  <a:p>
            <a:pPr lvl="3" marL="594720" indent="-124560">
              <a:spcBef>
                <a:spcPts val="2401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  <a:p>
            <a:pPr lvl="4" marL="931680" indent="-335520">
              <a:spcBef>
                <a:spcPts val="2401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  <a:p>
            <a:pPr lvl="5" marL="931680" indent="-335520">
              <a:spcBef>
                <a:spcPts val="24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  <a:p>
            <a:pPr lvl="6" marL="931680" indent="-335520">
              <a:spcBef>
                <a:spcPts val="24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hyperlink" Target="file:///Wiki%20blog.pptx" TargetMode="External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hyperlink" Target="file:///../../Curs%20Intel%20Teach/Modul%203/haosul_dreptului_de_autor.ppt" TargetMode="External"/><Relationship Id="rId3" Type="http://schemas.openxmlformats.org/officeDocument/2006/relationships/image" Target="../media/image7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8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7" descr="GM__2313"/>
          <p:cNvPicPr/>
          <p:nvPr/>
        </p:nvPicPr>
        <p:blipFill>
          <a:blip r:embed="rId1"/>
          <a:stretch/>
        </p:blipFill>
        <p:spPr>
          <a:xfrm>
            <a:off x="0" y="14400"/>
            <a:ext cx="9144000" cy="50702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5400" y="3158640"/>
            <a:ext cx="8267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1" lang="en-US" sz="36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Teach Program</a:t>
            </a:r>
            <a:endParaRPr b="1" lang="en-US" sz="3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44440" y="509220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just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Verdana"/>
              </a:rPr>
              <a:t>Predarea în societatea cunoaşterii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odul</a:t>
            </a:r>
            <a:r>
              <a:rPr b="0" lang="ro-RO" sz="2400" spc="-1" strike="noStrike">
                <a:solidFill>
                  <a:srgbClr val="ffffff"/>
                </a:solidFill>
                <a:latin typeface="Verdana"/>
              </a:rPr>
              <a:t>ul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3: Realizarea conexiunil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1" name="Picture 10" descr="intelEDU_wht_lrg [Converted]"/>
          <p:cNvPicPr/>
          <p:nvPr/>
        </p:nvPicPr>
        <p:blipFill>
          <a:blip r:embed="rId2"/>
          <a:stretch/>
        </p:blipFill>
        <p:spPr>
          <a:xfrm>
            <a:off x="6759720" y="490680"/>
            <a:ext cx="1774800" cy="8856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3"/>
          <p:cNvSpPr/>
          <p:nvPr/>
        </p:nvSpPr>
        <p:spPr>
          <a:xfrm>
            <a:off x="1432080" y="639144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Text Box 14"/>
          <p:cNvSpPr/>
          <p:nvPr/>
        </p:nvSpPr>
        <p:spPr>
          <a:xfrm>
            <a:off x="217440" y="6307200"/>
            <a:ext cx="6015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ffffff"/>
                </a:solidFill>
                <a:latin typeface="Verdana"/>
                <a:ea typeface="Times New Roman"/>
              </a:rPr>
              <a:t>Copyright® 2006 Corporaţia Intel. Toate drepturile rezervate. Intel şi Intel Education sunt mărci sau mărci înregistrate ale Corporaţiei Intel sau ale filialelor sale în Statele Unite sau alte ţări.* Alte nume sau mărci pot fi reclamate ca proprietăţi ale terţilor.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74AA6-A012-498A-B9CB-24A1DBA01348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6560" y="169560"/>
            <a:ext cx="894708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 3: Realizarea conexiunilor</a:t>
            </a:r>
            <a:br>
              <a:rPr sz="12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ctivitatea  3</a:t>
            </a:r>
            <a:br>
              <a:rPr sz="26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tilizarea Internetului pentru cercetare </a:t>
            </a: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(40 de minute) </a:t>
            </a:r>
            <a:br>
              <a:rPr sz="1200"/>
            </a:b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4000" y="1104840"/>
            <a:ext cx="8999640" cy="56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sc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rcaţi de pe site-ul wiki </a:t>
            </a:r>
            <a:r>
              <a:rPr b="1" lang="ro-RO" sz="1600" spc="-1" strike="noStrike">
                <a:solidFill>
                  <a:srgbClr val="ff0000"/>
                </a:solidFill>
                <a:latin typeface="Verdana"/>
              </a:rPr>
              <a:t>http://iscbihor1sa.wikispaces.com </a:t>
            </a:r>
            <a:r>
              <a:rPr b="1" lang="ro-RO" sz="1600" spc="-1" strike="noStrike">
                <a:solidFill>
                  <a:srgbClr val="567eb9"/>
                </a:solidFill>
                <a:latin typeface="Verdana"/>
              </a:rPr>
              <a:t>Diagrama KWL </a:t>
            </a:r>
            <a:r>
              <a:rPr b="0" lang="ro-RO" sz="1600" spc="-1" strike="noStrike">
                <a:solidFill>
                  <a:srgbClr val="567eb9"/>
                </a:solidFill>
                <a:latin typeface="Verdana"/>
              </a:rPr>
              <a:t>în folderul </a:t>
            </a:r>
            <a:r>
              <a:rPr b="1" lang="ro-RO" sz="1600" spc="-1" strike="noStrike">
                <a:solidFill>
                  <a:srgbClr val="567eb9"/>
                </a:solidFill>
                <a:latin typeface="Verdana"/>
              </a:rPr>
              <a:t>Evaluare, </a:t>
            </a:r>
            <a:r>
              <a:rPr b="0" lang="ro-RO" sz="1600" spc="-1" strike="noStrike">
                <a:solidFill>
                  <a:srgbClr val="567eb9"/>
                </a:solidFill>
                <a:latin typeface="Verdana"/>
              </a:rPr>
              <a:t>completaţi primele două coloane din fiecare slid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Pas 1: Localizarea resurselor Internet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(3.06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În funcţie de experienţa pe care o aveţi, alegeţi o opţiune de căutar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Opțiunea 1: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 Desfăşurarea unei căutări pe baza de web (CD Resurse-Modul 3, Activitatea 3 – procesul de căutare) (page 3.06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Opțiunea 2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:Utilizarea motoarelor de căutare specializate (page 3.08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Opțiunea 3: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 Găsirea şi salvarea imaginilor, sunetelor şi filmelor video de pe site-uri web (page 3.08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Pas 2: Evaluarea resurselor web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(3.09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Revedeţi fişierele pentru evaluarea resurselor web, din modulul 3 / activitatea 3 (evaluarea critică a informaţiilor de pe Internet) şi discutaţi cu un partener rezultatele acestei căutări, modul în care i-aţi putea ajuta pe elevi să evalueze mai critic resursele web pe care le utilizează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Completaţi planul de unitat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35" name="Object 5"/>
          <p:cNvGraphicFramePr/>
          <p:nvPr/>
        </p:nvGraphicFramePr>
        <p:xfrm>
          <a:off x="7783560" y="138240"/>
          <a:ext cx="1060560" cy="82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83560" y="138240"/>
                    <a:ext cx="106056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054D1-1DF7-44CC-BB95-1AF9C464FE1A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14280" y="149040"/>
            <a:ext cx="86486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860a8"/>
                </a:solidFill>
                <a:latin typeface="Verdana"/>
              </a:rPr>
              <a:t>Modul 3: Realizarea conexiunilor</a:t>
            </a:r>
            <a:br>
              <a:rPr sz="1200"/>
            </a:br>
            <a:br>
              <a:rPr sz="1000"/>
            </a:br>
            <a:r>
              <a:rPr b="1" lang="ro-RO" sz="2400" spc="-1" strike="noStrike">
                <a:solidFill>
                  <a:srgbClr val="0860a8"/>
                </a:solidFill>
                <a:latin typeface="Verdana"/>
              </a:rPr>
              <a:t>Activitatea 4 Comunicarea cu lumea prin Internet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00160" y="1171080"/>
            <a:ext cx="87818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Pas 1: Analizarea instrumentelor de comunicare prin Internet </a:t>
            </a:r>
            <a:r>
              <a:rPr b="0" lang="ro-RO" sz="1200" spc="-1" strike="noStrike">
                <a:solidFill>
                  <a:srgbClr val="0860a8"/>
                </a:solidFill>
                <a:latin typeface="Verdana"/>
              </a:rPr>
              <a:t>(3.10/ 10 minute)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Instrumente de comunicare bazate pe Interne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70c0"/>
                </a:solidFill>
                <a:latin typeface="Verdana"/>
              </a:rPr>
              <a:t>E-mail =</a:t>
            </a:r>
            <a:r>
              <a:rPr b="0" lang="ro-RO" sz="16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o metodă de comunicare între două persoane;poate fi utilizat pentru multiple scopuri educaţionale (transmiterea liste de probleme, a temelor..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70c0"/>
                </a:solidFill>
                <a:latin typeface="Verdana"/>
              </a:rPr>
              <a:t>Chat-uri Online =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camere virtuale, unde pe baza unui anumit topic de conversaţie se “întâlnesc” persoane cu interese comune (elevii pot utiliza chat-urile pentru a adresa întrebări, pentru a colabora cu colegii…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70c0"/>
                </a:solidFill>
                <a:latin typeface="Verdana"/>
              </a:rPr>
              <a:t>Mesaje Instant (IM) =</a:t>
            </a:r>
            <a:r>
              <a:rPr b="0" lang="ro-RO" sz="16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permit oamenilor să solicite şi să trimită mesaje text în timp real unor persoane de contact preselectate care sunt online în momentul respectiv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70c0"/>
                </a:solidFill>
                <a:latin typeface="Verdana"/>
              </a:rPr>
              <a:t>Studiu/Sondaj de opinie =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poate fi realizat pentru a aduna, analiza şi exporta datele de la respondenți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70c0"/>
                </a:solidFill>
                <a:latin typeface="Verdana"/>
              </a:rPr>
              <a:t>Protocol pentru Internet Voice Over (VoIP) =</a:t>
            </a:r>
            <a:r>
              <a:rPr b="0" lang="ro-RO" sz="16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o tehnologie de comunicare care permite persoanelor din toata lumea să vorbească între ei în timp real sau să efectueze apeluri telefonice prin Internet (ex Skype,Yahoo Messenger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Revedeţi tabelul de la pag 3.11 pentru compararea posibilităţilor de comunicare online (Vezi pag B19 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2CA3D-9C1C-4B22-A49F-D3CFE31A6610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860a8"/>
                </a:solidFill>
                <a:latin typeface="Verdana"/>
              </a:rPr>
              <a:t>Modul 3:  Realizarea conexiunilor</a:t>
            </a:r>
            <a:br>
              <a:rPr sz="1200"/>
            </a:br>
            <a:br>
              <a:rPr sz="1000"/>
            </a:b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Activitatea  4</a:t>
            </a:r>
            <a:br>
              <a:rPr sz="2600"/>
            </a:b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Comunicarea cu lumea prin Interne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1680" y="1619280"/>
            <a:ext cx="8751960" cy="380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 2: Analizaţi instrumentele de comunicare pentru a le corela cu unitatea dumneavoastră de învăţa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28960" indent="-22752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Selectaţi unul sau mai multe dintre următoarele instrumente de comunicaţii pentru a-l examina în detaliu şi utilizare în unitatea dumneavoastră de învăţar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2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60a8"/>
              </a:solidFill>
              <a:latin typeface="Verdana"/>
            </a:endParaRPr>
          </a:p>
          <a:p>
            <a:pPr lvl="2" marL="531360" indent="-301320">
              <a:lnSpc>
                <a:spcPct val="90000"/>
              </a:lnSpc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Optiunea 1: </a:t>
            </a:r>
            <a:r>
              <a:rPr b="1" lang="ro-RO" sz="1400" spc="-1" strike="noStrike">
                <a:solidFill>
                  <a:srgbClr val="0070c0"/>
                </a:solidFill>
                <a:latin typeface="Verdana"/>
              </a:rPr>
              <a:t>E-mail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 (page 3.12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31360" indent="-301320">
              <a:lnSpc>
                <a:spcPct val="90000"/>
              </a:lnSpc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Optiunea 2: </a:t>
            </a:r>
            <a:r>
              <a:rPr b="1" lang="ro-RO" sz="1400" spc="-1" strike="noStrike">
                <a:solidFill>
                  <a:srgbClr val="0070c0"/>
                </a:solidFill>
                <a:latin typeface="Verdana"/>
              </a:rPr>
              <a:t>Chat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 (page 3.13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31360" indent="-301320">
              <a:lnSpc>
                <a:spcPct val="90000"/>
              </a:lnSpc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Optiunea 3: </a:t>
            </a:r>
            <a:r>
              <a:rPr b="1" lang="ro-RO" sz="1400" spc="-1" strike="noStrike">
                <a:solidFill>
                  <a:srgbClr val="0070c0"/>
                </a:solidFill>
                <a:latin typeface="Verdana"/>
              </a:rPr>
              <a:t>Mesaje Instant (IM)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(page 3.13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31360" indent="-301320">
              <a:lnSpc>
                <a:spcPct val="90000"/>
              </a:lnSpc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Optiunea 4: </a:t>
            </a:r>
            <a:r>
              <a:rPr b="1" lang="ro-RO" sz="1400" spc="-1" strike="noStrike">
                <a:solidFill>
                  <a:srgbClr val="0860a8"/>
                </a:solidFill>
                <a:latin typeface="Verdana"/>
              </a:rPr>
              <a:t>Studiu/Sondaj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(page 3.14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31360" indent="-301320">
              <a:lnSpc>
                <a:spcPct val="90000"/>
              </a:lnSpc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Optiunea 5: </a:t>
            </a:r>
            <a:r>
              <a:rPr b="1" lang="ro-RO" sz="1400" spc="-1" strike="noStrike">
                <a:solidFill>
                  <a:srgbClr val="0860a8"/>
                </a:solidFill>
                <a:latin typeface="Verdana"/>
              </a:rPr>
              <a:t>Protocol pentru Internet Voice Over (VoIP)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(page 3.15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2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60a8"/>
              </a:solidFill>
              <a:latin typeface="Verdana"/>
            </a:endParaRPr>
          </a:p>
          <a:p>
            <a:pPr lvl="1" marL="228960" indent="-22752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Marcaţi orice resursă cu informaţii utile cu privire la modul de utilizare a acestor instrumente în sala de clasă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2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2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Notă: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Toate site-urile web menţionate în prezentul modul sunt disponibile  in fişierul ”site-uri web pentru modulul 3” din  folder-ul Modulul 3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43" name="Object 5"/>
          <p:cNvGraphicFramePr/>
          <p:nvPr/>
        </p:nvGraphicFramePr>
        <p:xfrm>
          <a:off x="7304040" y="155520"/>
          <a:ext cx="1278000" cy="998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4040" y="155520"/>
                    <a:ext cx="1278000" cy="9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B1E11-CEAB-451B-B70A-90B50DB54AE1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90160" y="272880"/>
            <a:ext cx="885348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 3: Realizarea conexiunilor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ctivitatea 5: Studiul 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v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ăţă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ii prin co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operare prin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 web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pag 3.16/ 20 minute)</a:t>
            </a: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5760" y="2015640"/>
            <a:ext cx="8237520" cy="17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Analizaţi avantajele şi dezavantajele fiecărei resurse din </a:t>
            </a:r>
            <a:r>
              <a:rPr b="1" i="1" lang="ro-RO" sz="1800" spc="-1" strike="noStrike">
                <a:solidFill>
                  <a:srgbClr val="0860a8"/>
                </a:solidFill>
                <a:latin typeface="Verdana"/>
              </a:rPr>
              <a:t>tabelul de la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i="1" lang="ro-RO" sz="1800" spc="-1" strike="noStrike">
                <a:solidFill>
                  <a:srgbClr val="0860a8"/>
                </a:solidFill>
                <a:latin typeface="Verdana"/>
              </a:rPr>
              <a:t>pag.3.16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Exploraţi online site-uri web de colaborare; aceste informaţii vă vor ajuta să luaţi în considerare felul în care puteţi utiliza aceste instrumente pentru a sprijini obiectivele de învăţare şi colaborarea elevilor în cadrul unităţii dumneavoastră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48" name="Object 5"/>
          <p:cNvGraphicFramePr/>
          <p:nvPr/>
        </p:nvGraphicFramePr>
        <p:xfrm>
          <a:off x="1530360" y="4272120"/>
          <a:ext cx="1247760" cy="9745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49" name="Object 5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30360" y="4272120"/>
                    <a:ext cx="1247760" cy="97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AEB33-7A98-4A95-96F7-3CE93E2330A3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240" y="272880"/>
            <a:ext cx="891540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860a8"/>
                </a:solidFill>
                <a:latin typeface="Verdana"/>
              </a:rPr>
              <a:t>Module 3: Realizarea conexiunilor</a:t>
            </a:r>
            <a:br>
              <a:rPr sz="1200"/>
            </a:br>
            <a:br>
              <a:rPr sz="1000"/>
            </a:b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Activitatea  6: Utilizarea site-ului de colaborare online pentru a  schimba idei </a:t>
            </a:r>
            <a:r>
              <a:rPr b="0" lang="ro-RO" sz="1200" spc="-1" strike="noStrike">
                <a:solidFill>
                  <a:srgbClr val="0860a8"/>
                </a:solidFill>
                <a:latin typeface="Verdana"/>
              </a:rPr>
              <a:t>(3.20/40 minute) </a:t>
            </a: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5760" y="16664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Vizitaţi site-ul web de colaborarea online : </a:t>
            </a:r>
            <a:r>
              <a:rPr b="0" lang="ro-RO" sz="1600" spc="-1" strike="noStrike">
                <a:solidFill>
                  <a:srgbClr val="ff5c00"/>
                </a:solidFill>
                <a:latin typeface="Verdana"/>
              </a:rPr>
              <a:t>[docs.google.com]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Conectare…………………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Deschideţi programul online de calcul tabelar : </a:t>
            </a:r>
            <a:r>
              <a:rPr b="0" lang="ro-RO" sz="1600" spc="-1" strike="noStrike">
                <a:solidFill>
                  <a:srgbClr val="ff5c00"/>
                </a:solidFill>
                <a:latin typeface="Verdana"/>
              </a:rPr>
              <a:t>[]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Deschideţi fişa de lucru online şi căutaţi unde aveţi atribuit un rând, unde veţi putea introduce informaţiil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Adăugaţi informaţii din Planul dumneavoastră de Unitate în fişa de calcul tabelar online;(specificaţi numele dumneavoastră pe lini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Analizaţi unităţile care sunt create de ceilalţi profesori din intervalul claselor la care predaţi dumneavoastră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Luaţi în considerare următoarele aspecte în momentul analizei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Unităţile lor sunt similare sau complementare acesteia?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Activitatea desfasurată cu un alt profesor ar fi benefică pentru dumneavoastră pe măsură ce vă dezvoltaţi ideile de unitate şi componentele portofoliului de unitate?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Contactaţi profesorii cu care aţi dori să colaboraţi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9A99E-15DB-49E7-97EB-7EC3664E623B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 3: Realizare conexiunilor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ctivitate  6: Utilizarea site-ului de colaborare online pentru a face schimburi de ide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3.21)</a:t>
            </a: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760" y="2016000"/>
            <a:ext cx="8237520" cy="31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cuta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 asupra urm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oarelor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treb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i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 grupuri mici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v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â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d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 vedere punctele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 provoc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ile fiec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ui instrument, cum ar putea acestea s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v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jute s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tinge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 obiectivele de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v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 ale unit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i dumneavoastr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um a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 putea structura utilizarea instrumentelor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 sala de clas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pentru a v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sigura c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elevii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va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ţ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e schimb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i propune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?(extinde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 ideile pentru utilizarea Int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e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netului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 unitatea dumneavoastr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de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v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 pe parcursul activit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i Planificarea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 avan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forma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ț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i despre construirea unui site de editare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 colaborare pentru propriul curs (pag B31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07786-9371-48FA-AE1F-6214075C7499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99520" y="272880"/>
            <a:ext cx="85028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 3: Realizarea conexiunilor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ctivitatea  7</a:t>
            </a:r>
            <a:br>
              <a:rPr sz="26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ţie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 asupra propriei 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v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ăţă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i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 pag 3.22/5 minute)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5760" y="1574280"/>
            <a:ext cx="830736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60a8"/>
                </a:solidFill>
                <a:latin typeface="Verdana"/>
              </a:rPr>
              <a:t>Pas  1: Recapitularea modulului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26676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860a8"/>
              </a:solidFill>
              <a:latin typeface="Verdana"/>
            </a:endParaRPr>
          </a:p>
          <a:p>
            <a:pPr marL="2667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60a8"/>
                </a:solidFill>
                <a:latin typeface="Verdana"/>
              </a:rPr>
              <a:t>Elementele cheie pentru modulul 3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266760" indent="-266760">
              <a:lnSpc>
                <a:spcPct val="9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Internetul poate fi un instrument puternic de cercetare, colaborare si comunicare cu al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ii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266760" indent="-266760">
              <a:lnSpc>
                <a:spcPct val="9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Instruc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iunile pentru o utilizare loial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 descriu modurile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n care materialele protejate de drepturile de autor pot fi folosite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n mod legal de c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tre profesori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i elevi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n clas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266760" indent="-266760">
              <a:lnSpc>
                <a:spcPct val="9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Listele  bibliografi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c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 pot fi create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n diverse formate pentru elevi de toate v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â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stele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266760" indent="-266760">
              <a:lnSpc>
                <a:spcPct val="9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tilizarea profesionist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 a strategiilor de cercetare permite elevilor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i profesorilor s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 g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seasc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 informa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ii utile pe web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n mod eficient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266760" indent="-266760">
              <a:lnSpc>
                <a:spcPct val="9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 varietate de factori trebuie lua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i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n considerare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n momentul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n care se stabile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te credibilitatea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i valoarea unui site web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266760" indent="-266760">
              <a:lnSpc>
                <a:spcPct val="9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Instrumentele care permit elevilor s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 comunice cu persoane din toat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 lumea prin Internet: E-mail, Chat-uri online, mesaje instant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i protocol pentru Internet  Voice Over IP;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266760" indent="-266760">
              <a:lnSpc>
                <a:spcPct val="9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Blog-uri, wiki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i documente  online, permit elevilor s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 colaboreze la proiecte prin partajarea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i oferirea de r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spunsuri cu privire la activitatea celorlalte persoane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304920" y="1908000"/>
            <a:ext cx="8534160" cy="3857760"/>
          </a:xfrm>
          <a:prstGeom prst="rect">
            <a:avLst/>
          </a:prstGeom>
          <a:noFill/>
          <a:ln w="2844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E37E2-E4A5-449A-A805-823318B06E38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455760" y="1482840"/>
            <a:ext cx="83833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 2: Introducerea experienţei în blo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Reflectaţi asupra activităţilor şi abordărilor incluse în acest modul în blog-ul dumneavoastră personal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10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Deschideţi blog-ul: </a:t>
            </a:r>
            <a:r>
              <a:rPr b="1" lang="ro-RO" sz="2000" spc="-1" strike="noStrike">
                <a:solidFill>
                  <a:srgbClr val="002060"/>
                </a:solidFill>
                <a:latin typeface="Verdana"/>
              </a:rPr>
              <a:t>http://iscbihor1as.21classes.com/home/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10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Reflectaţi asupra modului în care punctul central al acestui modul v-a ajutat să planificaţi şi să creaţi unitatea dumneavoastră de învăţare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100000"/>
              </a:lnSpc>
              <a:spcBef>
                <a:spcPts val="451"/>
              </a:spcBef>
              <a:buClr>
                <a:srgbClr val="7f2e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7f2e00"/>
                </a:solidFill>
                <a:latin typeface="Verdana"/>
              </a:rPr>
              <a:t>Cum pot utiliza Internetul pentru a sprijini procesul meu de predare si procesul de învăţare al elevilor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100000"/>
              </a:lnSpc>
              <a:spcBef>
                <a:spcPts val="451"/>
              </a:spcBef>
              <a:buClr>
                <a:srgbClr val="7f2e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7f2e00"/>
                </a:solidFill>
                <a:latin typeface="Verdana"/>
              </a:rPr>
              <a:t>Cum pot să asigur utlizarea responsabilă şi corespunzătoare a Internetului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Gandiţi-vă la modul în care cunoştinţele pe care le-aţi dobândit din acest modul vor avea impact asupra procesului de predare şi a procesului de învăţare al elevilor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0" y="166680"/>
            <a:ext cx="91440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 3: Realizarea conexiunilor</a:t>
            </a:r>
            <a:br>
              <a:rPr sz="1200"/>
            </a:br>
            <a:br>
              <a:rPr sz="1000"/>
            </a:br>
            <a:r>
              <a:rPr b="1" lang="en-US" sz="10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ctivitatea  7</a:t>
            </a:r>
            <a:br>
              <a:rPr sz="26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  Reflec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ţie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 asupra propriei 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v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ăţă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i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 pag 3.22/ 15 minute)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3" name="Object 6"/>
          <p:cNvGraphicFramePr/>
          <p:nvPr/>
        </p:nvGraphicFramePr>
        <p:xfrm>
          <a:off x="7773840" y="147600"/>
          <a:ext cx="1094040" cy="8542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3840" y="147600"/>
                    <a:ext cx="1094040" cy="8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E32DA-95BD-4824-90ED-C1975A9D59FD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3200" y="-36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 3: Realizarea conexiunilor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lanificarea 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 avans</a:t>
            </a:r>
            <a:br>
              <a:rPr sz="2600"/>
            </a:br>
            <a:r>
              <a:rPr b="0" lang="en-US" sz="2200" spc="-1" strike="noStrike">
                <a:solidFill>
                  <a:srgbClr val="0860a8"/>
                </a:solidFill>
                <a:latin typeface="Verdana"/>
              </a:rPr>
              <a:t>Includerea Internetului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3.23/ 5 minute prezentare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general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)</a:t>
            </a:r>
            <a:endParaRPr b="1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5120" y="1133640"/>
            <a:ext cx="8307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63880" indent="-2638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aliza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ideile de brainstorming de la pagina 3.03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noti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le dumneavoastr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de la pagina 3.21 pentru a integra Internetul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 unitatea dumneavoastr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de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v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 tabelul de la pagina 3.23, selecta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una sau mai multe instrumente Internet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descrie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pe scurt modurile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 care le ve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utiliza pentru a sprijini obiectivele de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v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e ale unit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i dumneavoastr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38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Not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: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belul , c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â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link-urile adnotate c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e instrumentele suplimentare bazate pe web  sunt disponibile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 directorul Modulul3/Planificarea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avans de pe CD-ul cu resurse curricular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38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) Cum ar putea oricare din urmatoarele tehnologii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bun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procesul de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v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e al elevilor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 unitatea dumneavoastr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de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v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e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38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) Ce resurse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instruc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uni trebuie s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furniza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elevilor pentru a v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asigura c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utilizarea Internetului de c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e ace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a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bun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e procesul lor de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v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e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09927-3252-48DB-83A2-FF084F9846A8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rm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orul modu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85840" y="1069920"/>
          <a:ext cx="8578800" cy="4240440"/>
        </p:xfrm>
        <a:graphic>
          <a:graphicData uri="http://schemas.openxmlformats.org/drawingml/2006/table">
            <a:tbl>
              <a:tblPr/>
              <a:tblGrid>
                <a:gridCol w="2611440"/>
                <a:gridCol w="5967360"/>
              </a:tblGrid>
              <a:tr h="487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odul 4: Crearea e</a:t>
                      </a:r>
                      <a:r>
                        <a:rPr b="1" lang="ro-RO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antioanelor de </a:t>
                      </a:r>
                      <a:r>
                        <a:rPr b="1" lang="ro-RO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î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v</a:t>
                      </a:r>
                      <a:r>
                        <a:rPr b="1" lang="ro-RO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ă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ta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aa014c"/>
                      </a:solidFill>
                    </a:lnT>
                    <a:lnB w="5760">
                      <a:solidFill>
                        <a:srgbClr val="aa014c"/>
                      </a:solidFill>
                    </a:lnB>
                    <a:solidFill>
                      <a:srgbClr val="aa014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5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Punctul central:</a:t>
                      </a:r>
                      <a:r>
                        <a:rPr b="0" lang="en-US" sz="24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Obiectivele proiectului din perspectiva elevil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aa014c"/>
                      </a:solidFill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31840" indent="-231840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Obiective:</a:t>
                      </a: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31840" indent="-23184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Identificarea strategiilor </a:t>
                      </a: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ş</a:t>
                      </a: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i procedurilor de siguran</a:t>
                      </a: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ţă</a:t>
                      </a: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ş</a:t>
                      </a: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i utilizarea corespunz</a:t>
                      </a: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ă</a:t>
                      </a: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toare a Internetului (Politica Utiliz</a:t>
                      </a: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ă</a:t>
                      </a: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rii Acceptabile 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31840" indent="-23184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C</a:t>
                      </a: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ă</a:t>
                      </a: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utarea celui mai bun instrument de prezentare pentru a demonstra ceea ce a </a:t>
                      </a: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î</a:t>
                      </a: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nv</a:t>
                      </a: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ăţ</a:t>
                      </a: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at elevul:realizarea  unei publica</a:t>
                      </a: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ţ</a:t>
                      </a: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ii, prezent</a:t>
                      </a: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ă</a:t>
                      </a: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ri, wiki sau blo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31840" indent="-23184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Trasarea Instruc</a:t>
                      </a: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ţ</a:t>
                      </a: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iunilor procedurale pentru Unitatea de </a:t>
                      </a: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î</a:t>
                      </a: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nv</a:t>
                      </a: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ăţ</a:t>
                      </a: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a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31840" indent="-23184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Autoevaluarea elevil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31840" indent="-23184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Reflec</a:t>
                      </a: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ţ</a:t>
                      </a: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iile </a:t>
                      </a: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î</a:t>
                      </a: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nv</a:t>
                      </a: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ăţă</a:t>
                      </a: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rii </a:t>
                      </a: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î</a:t>
                      </a: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n blog-ul pers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aa014c"/>
                      </a:solidFill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4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CDBCD-3576-40F8-A206-02E9E5F37662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115920"/>
            <a:ext cx="805788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860a8"/>
                </a:solidFill>
                <a:latin typeface="Verdana"/>
              </a:rPr>
              <a:t>Ce am studiat </a:t>
            </a:r>
            <a:r>
              <a:rPr b="1" lang="ro-RO" sz="2200" spc="-1" strike="noStrike">
                <a:solidFill>
                  <a:srgbClr val="0860a8"/>
                </a:solidFill>
                <a:latin typeface="Verdana"/>
              </a:rPr>
              <a:t>până acum</a:t>
            </a:r>
            <a:r>
              <a:rPr b="1" lang="en-US" sz="2200" spc="-1" strike="noStrike">
                <a:solidFill>
                  <a:srgbClr val="0860a8"/>
                </a:solidFill>
                <a:latin typeface="Verdana"/>
              </a:rPr>
              <a:t> ?</a:t>
            </a:r>
            <a:endParaRPr b="1" lang="en-US" sz="2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96920" y="1730520"/>
            <a:ext cx="4145040" cy="31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2747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Modulul 1: Predarea prin proiect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12747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	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Invătarea bazată pe proiect şi design-ul unităţii de învăţar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127476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12747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12747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Modulul 2: 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</a:rPr>
              <a:t>Proiectarea propriei unităţi de învăţar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12747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	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Întrebările generatoare ale unităţii de învăţare şi evaluarea continuă centrată pe elev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55880" y="1371240"/>
            <a:ext cx="404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8" name="Picture 6" descr="IM000069"/>
          <p:cNvPicPr/>
          <p:nvPr/>
        </p:nvPicPr>
        <p:blipFill>
          <a:blip r:embed="rId1"/>
          <a:stretch/>
        </p:blipFill>
        <p:spPr>
          <a:xfrm>
            <a:off x="4381560" y="1382760"/>
            <a:ext cx="4505400" cy="42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2602E-044C-4D2A-B172-E6588D7789C7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Picture 6" descr=""/>
          <p:cNvPicPr/>
          <p:nvPr/>
        </p:nvPicPr>
        <p:blipFill>
          <a:blip r:embed="rId1"/>
          <a:stretch/>
        </p:blipFill>
        <p:spPr>
          <a:xfrm>
            <a:off x="0" y="-63360"/>
            <a:ext cx="9144000" cy="609120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3"/>
          <p:cNvSpPr/>
          <p:nvPr/>
        </p:nvSpPr>
        <p:spPr>
          <a:xfrm>
            <a:off x="4835520" y="285840"/>
            <a:ext cx="823752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3286080" y="1488960"/>
            <a:ext cx="4851360" cy="32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860a8"/>
                </a:solidFill>
                <a:latin typeface="Verdana"/>
              </a:rPr>
              <a:t>Computers are not magic. Teachers are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1800360" y="123516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5219640" y="2739960"/>
            <a:ext cx="318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0860a8"/>
                </a:solidFill>
                <a:latin typeface="Verdana"/>
              </a:rPr>
              <a:t>Craig Barrett, Preşedinte INT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4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C5F8A-FA80-4C11-917C-B8ED7C137D8C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15800" y="0"/>
            <a:ext cx="8237520" cy="4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nde ne af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lăm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  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17080" y="4118040"/>
            <a:ext cx="8645400" cy="1868400"/>
          </a:xfrm>
          <a:prstGeom prst="rect">
            <a:avLst/>
          </a:prstGeom>
          <a:noFill/>
          <a:ln w="9360">
            <a:solidFill>
              <a:srgbClr val="aa014c"/>
            </a:solidFill>
            <a:miter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700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860a8"/>
                </a:solidFill>
                <a:latin typeface="Verdana"/>
              </a:rPr>
              <a:t>Întrebarea esențială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00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Cum poate fi utilizată tehnologia în mod eficient pentru a susţine şi evalua procesul de învățare al elevilor?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700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860a8"/>
                </a:solidFill>
                <a:latin typeface="Verdana"/>
              </a:rPr>
              <a:t>Întrebări referitoare la modul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00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Cum pot utiliza Internetul pentru a sprijini procesul meu de predare şi procesul de învățare al elevilor ?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00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Cum se poate asigura o utilizare responsabilă şi corespunzătoare a Internetului?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28600" y="428760"/>
          <a:ext cx="8610480" cy="3671640"/>
        </p:xfrm>
        <a:graphic>
          <a:graphicData uri="http://schemas.openxmlformats.org/drawingml/2006/table">
            <a:tbl>
              <a:tblPr/>
              <a:tblGrid>
                <a:gridCol w="2338560"/>
                <a:gridCol w="6271920"/>
              </a:tblGrid>
              <a:tr h="41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odule 3: Realizarea conexiunil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aa014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014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60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Elementul central:</a:t>
                      </a: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Internetul ca suport al predării şi învăţăr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3920" indent="-223920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Obiective: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Utilizarea unui wiki pentru a schimba idei pentru atingerea standardelor (competenţe specifice /obiective de referinţă) într-o clasă centrată pe elev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Înţelegerea legilor copyright-ului (dreptul de autor) şi utilizarea acestor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Realizare de documente cu lucrări cit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Integrarea şi utilizarea resurselor Internet în căutarea, comunicarea, colaborarea, rezolvarea problemelor pentru dezvoltarea abilităţilor secolului XXI 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Utilizarea unei resurse de colaborare online pentru a schimba ide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Reflectarea asupra propriului proces de  învăţa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64292-2608-4FB2-9B53-65C1A2669CA7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Rectangle 12"/>
          <p:cNvSpPr/>
          <p:nvPr/>
        </p:nvSpPr>
        <p:spPr>
          <a:xfrm>
            <a:off x="573120" y="328680"/>
            <a:ext cx="406872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C</a:t>
            </a:r>
            <a:r>
              <a:rPr b="1" lang="ro-RO" sz="3200" spc="-1" strike="noStrike">
                <a:solidFill>
                  <a:srgbClr val="0860a8"/>
                </a:solidFill>
                <a:latin typeface="Verdana"/>
              </a:rPr>
              <a:t>ătre ce ne îndreptăm</a:t>
            </a: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5" name="Picture 19" descr="GM__2346"/>
          <p:cNvPicPr/>
          <p:nvPr/>
        </p:nvPicPr>
        <p:blipFill>
          <a:blip r:embed="rId1"/>
          <a:stretch/>
        </p:blipFill>
        <p:spPr>
          <a:xfrm>
            <a:off x="4659480" y="14400"/>
            <a:ext cx="4484520" cy="59958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47600" y="1881360"/>
            <a:ext cx="4415040" cy="38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Modul 4: </a:t>
            </a:r>
            <a:r>
              <a:rPr b="1" lang="en-US" sz="1200" spc="-1" strike="noStrike">
                <a:solidFill>
                  <a:srgbClr val="0c2e86"/>
                </a:solidFill>
                <a:latin typeface="Verdana"/>
              </a:rPr>
              <a:t>Crea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</a:rPr>
              <a:t>rea unor produse-model</a:t>
            </a:r>
            <a:r>
              <a:rPr b="1" lang="en-US" sz="12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</a:rPr>
              <a:t>ale învăţării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c2e86"/>
                </a:solidFill>
                <a:latin typeface="Verdana"/>
              </a:rPr>
              <a:t>Produsele</a:t>
            </a:r>
            <a:r>
              <a:rPr b="0" lang="en-US" sz="12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ro-RO" sz="1200" spc="-1" strike="noStrike">
                <a:solidFill>
                  <a:srgbClr val="0c2e86"/>
                </a:solidFill>
                <a:latin typeface="Verdana"/>
              </a:rPr>
              <a:t>elevilor </a:t>
            </a:r>
            <a:r>
              <a:rPr b="0" lang="en-US" sz="1200" spc="-1" strike="noStrike">
                <a:solidFill>
                  <a:srgbClr val="0c2e86"/>
                </a:solidFill>
                <a:latin typeface="Verdana"/>
              </a:rPr>
              <a:t>(pre</a:t>
            </a:r>
            <a:r>
              <a:rPr b="0" lang="ro-RO" sz="1200" spc="-1" strike="noStrike">
                <a:solidFill>
                  <a:srgbClr val="0c2e86"/>
                </a:solidFill>
                <a:latin typeface="Verdana"/>
              </a:rPr>
              <a:t>z</a:t>
            </a:r>
            <a:r>
              <a:rPr b="0" lang="en-US" sz="1200" spc="-1" strike="noStrike">
                <a:solidFill>
                  <a:srgbClr val="0c2e86"/>
                </a:solidFill>
                <a:latin typeface="Verdana"/>
              </a:rPr>
              <a:t>enta</a:t>
            </a:r>
            <a:r>
              <a:rPr b="0" lang="ro-RO" sz="1200" spc="-1" strike="noStrike">
                <a:solidFill>
                  <a:srgbClr val="0c2e86"/>
                </a:solidFill>
                <a:latin typeface="Verdana"/>
              </a:rPr>
              <a:t>re</a:t>
            </a:r>
            <a:r>
              <a:rPr b="0" lang="en-US" sz="1200" spc="-1" strike="noStrike">
                <a:solidFill>
                  <a:srgbClr val="0c2e86"/>
                </a:solidFill>
                <a:latin typeface="Verdana"/>
              </a:rPr>
              <a:t>, publica</a:t>
            </a:r>
            <a:r>
              <a:rPr b="0" lang="ro-RO" sz="1200" spc="-1" strike="noStrike">
                <a:solidFill>
                  <a:srgbClr val="0c2e86"/>
                </a:solidFill>
                <a:latin typeface="Verdana"/>
              </a:rPr>
              <a:t>ţie</a:t>
            </a:r>
            <a:r>
              <a:rPr b="0" lang="en-US" sz="1200" spc="-1" strike="noStrike">
                <a:solidFill>
                  <a:srgbClr val="0c2e86"/>
                </a:solidFill>
                <a:latin typeface="Verdana"/>
              </a:rPr>
              <a:t>, wiki, blog)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Modul 5: Evaluarea proiectelor elevilor 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Evaluare formativ</a:t>
            </a:r>
            <a:r>
              <a:rPr b="0" lang="ro-RO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ă</a:t>
            </a:r>
            <a:r>
              <a:rPr b="0" lang="en-US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 si sumativ</a:t>
            </a:r>
            <a:r>
              <a:rPr b="0" lang="ro-RO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ă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Modul 6: P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roiectarea pentru succesul elevilor</a:t>
            </a:r>
            <a:r>
              <a:rPr b="1" lang="en-US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 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Sprijinirea elevilor şi stimularea autonomiei în învăţare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Modul 7: Facilitare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a procesului predare-învăţare-evaluare</a:t>
            </a:r>
            <a:r>
              <a:rPr b="1" lang="en-US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 prin 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intermediul tehnologiei informaţiei </a:t>
            </a:r>
            <a:r>
              <a:rPr b="1" lang="en-US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 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Profesorul ca facilitator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Modul 8: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Prezentarea portofoliilor unit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ăţ</a:t>
            </a:r>
            <a:r>
              <a:rPr b="1" lang="en-US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ilor de 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î</a:t>
            </a:r>
            <a:r>
              <a:rPr b="1" lang="en-US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nv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ă</a:t>
            </a:r>
            <a:r>
              <a:rPr b="1" lang="en-US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tare 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 </a:t>
            </a:r>
            <a:r>
              <a:rPr b="0" lang="ro-RO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Discutarea </a:t>
            </a:r>
            <a:r>
              <a:rPr b="0" lang="en-US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 </a:t>
            </a:r>
            <a:r>
              <a:rPr b="0" lang="ro-RO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î</a:t>
            </a:r>
            <a:r>
              <a:rPr b="0" lang="en-US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nv</a:t>
            </a:r>
            <a:r>
              <a:rPr b="0" lang="ro-RO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ăţă</a:t>
            </a:r>
            <a:r>
              <a:rPr b="0" lang="en-US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rii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1BCDA-91D2-4547-A54B-91386A7CB860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76280" y="16956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860a8"/>
                </a:solidFill>
                <a:latin typeface="Verdana"/>
              </a:rPr>
              <a:t>Modul 3: Realizarea Conexiunilor</a:t>
            </a:r>
            <a:br>
              <a:rPr sz="1200"/>
            </a:br>
            <a:br>
              <a:rPr sz="1000"/>
            </a:b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Comunicarea în perechi şi schimb de idei asupra  experienţelor pentru a stabili nevoile elevilor</a:t>
            </a: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200" spc="-1" strike="noStrike">
                <a:solidFill>
                  <a:srgbClr val="0860a8"/>
                </a:solidFill>
                <a:latin typeface="Verdana"/>
              </a:rPr>
              <a:t>(3.01/30 de minute)</a:t>
            </a:r>
            <a:br>
              <a:rPr sz="1600"/>
            </a:b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5760" y="1993680"/>
            <a:ext cx="823752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Discutaţi </a:t>
            </a:r>
            <a:r>
              <a:rPr b="0" lang="ro-RO" sz="2000" spc="-1" strike="noStrike">
                <a:solidFill>
                  <a:srgbClr val="c00000"/>
                </a:solidFill>
                <a:latin typeface="Verdana"/>
              </a:rPr>
              <a:t>(în perechi) 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Întrebările de generare a proiectelor şi extrageţi idei pentru îmbunătăţirea acestora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Partajaţi prezentarea dumneavoastră pentru a stabili nevoile elevilor. Furnizaţi răspunsuri la următoarele întrebări in timp ce discutaţi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51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are este scopul general al evaluării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51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e doriţi să învăţaţi de la elevii dumneavoastră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51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um aţi încercat să promovaţi abilitățile de gândire de ordin superior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51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um vă vor ajuta informaţiile de evaluare pe dumneavoastră şi pe elevii dumneavoastră în planificarea activităţilor viitoare din cadrul unităţii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Ce reacţii sau idei suplimentare căutaţi în decursul timpului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10" name="Object 4"/>
          <p:cNvGraphicFramePr/>
          <p:nvPr/>
        </p:nvGraphicFramePr>
        <p:xfrm>
          <a:off x="7245360" y="973080"/>
          <a:ext cx="1471680" cy="10461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45360" y="973080"/>
                    <a:ext cx="1471680" cy="10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BCC7B-68D3-46E6-91C3-0EE94B9016A1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4840" y="167760"/>
            <a:ext cx="8667720" cy="15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 3: Realizarea conexiunilor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ractici Pedagogice</a:t>
            </a:r>
            <a:br>
              <a:rPr sz="24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tingerea </a:t>
            </a:r>
            <a:r>
              <a:rPr b="1" lang="ro-RO" sz="2400" spc="-1" strike="noStrike">
                <a:solidFill>
                  <a:srgbClr val="0860a8"/>
                </a:solidFill>
                <a:latin typeface="Verdana"/>
              </a:rPr>
              <a:t>competenţelor specifice/obiectivelor de referinţă în învăţarea</a:t>
            </a: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 centrat</a:t>
            </a:r>
            <a:r>
              <a:rPr b="1" lang="ro-RO" sz="24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 pe elev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(3.02/</a:t>
            </a:r>
            <a:r>
              <a:rPr b="0" lang="ro-RO" sz="1200" spc="-1" strike="noStrike">
                <a:solidFill>
                  <a:srgbClr val="0860a8"/>
                </a:solidFill>
                <a:latin typeface="Verdana"/>
              </a:rPr>
              <a:t>5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0 minute)</a:t>
            </a: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17600" y="1806480"/>
            <a:ext cx="8237520" cy="40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Discuţii privind aspectele problematice şi posibilele soluţii pentru atingerea competenţelor specifice/obiectivelor de referinţă într-o clasă centrată pe elevi </a:t>
            </a:r>
            <a:r>
              <a:rPr b="0" lang="ro-RO" sz="1800" spc="-1" strike="noStrike">
                <a:solidFill>
                  <a:srgbClr val="c00000"/>
                </a:solidFill>
                <a:latin typeface="Verdana"/>
              </a:rPr>
              <a:t>(3 grupe)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Fiecare grupă discută o singură întrebar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65920" indent="-32076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Cum pot să mă asigur că elevii ating competenţele specifice/obiectivele de referinţă la nivel optim din punct de vedere calitativ şi cantitativ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65920" indent="-32076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În cazul în care elevii se ocupă de propriul proces de învăţare, cum putem noi fi siguri că învaţă ceea ce este important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65920" indent="-32076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Cum pot să mă asigur că în cadrul echipei, fiecare elev îşi asumă sarcinile de lucru cu responsabilitate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O persoană din grupă se va conecta pe adresa site-ului web wiki şi va înregistra punctul de vedere al grupului respectiv: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ro-RO" sz="2400" spc="-1" strike="noStrike">
                <a:solidFill>
                  <a:srgbClr val="0c2e86"/>
                </a:solidFill>
                <a:latin typeface="Verdana"/>
              </a:rPr>
              <a:t>http://iscbihor1a</a:t>
            </a:r>
            <a:r>
              <a:rPr b="1" lang="en-US" sz="2400" spc="-1" strike="noStrike">
                <a:solidFill>
                  <a:srgbClr val="0c2e86"/>
                </a:solidFill>
                <a:latin typeface="Verdana"/>
              </a:rPr>
              <a:t>s</a:t>
            </a:r>
            <a:r>
              <a:rPr b="1" lang="ro-RO" sz="2400" spc="-1" strike="noStrike">
                <a:solidFill>
                  <a:srgbClr val="0c2e86"/>
                </a:solidFill>
                <a:latin typeface="Verdana"/>
              </a:rPr>
              <a:t>.wikispaces.com/ 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Analizaţi paginile celorlalte echipe şi adăugaţi elemente în lista lor de soluţi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00155-5160-4DAE-8872-8F8FC208C90D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 3: Realizarea conexiunilor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ctivitatea 1</a:t>
            </a:r>
            <a:br>
              <a:rPr sz="2600"/>
            </a:b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Identificarea şi selectarea abilităţilor necesare în secolul XXI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200" spc="-1" strike="noStrike">
                <a:solidFill>
                  <a:srgbClr val="3769ed"/>
                </a:solidFill>
                <a:latin typeface="Verdana"/>
              </a:rPr>
              <a:t>(3.03/ 25 minute/abilităţile secolului XXI- pag 1.02)</a:t>
            </a: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1880" y="2016000"/>
            <a:ext cx="8237520" cy="22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Gândiţi-vă la modalitaţi de includere a anumitor abilităţi ale secolului XXI în unitatea dvs. de învăţare, documentare, comunicare, colaborare şi rezolvare a problemelo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Descărcați fișierul </a:t>
            </a:r>
            <a:r>
              <a:rPr b="0" lang="ro-RO" sz="1800" spc="-1" strike="noStrike">
                <a:solidFill>
                  <a:srgbClr val="c00000"/>
                </a:solidFill>
                <a:latin typeface="Verdana"/>
              </a:rPr>
              <a:t>Identificarea şi selectarea competenţelor necesare în secolul XXI</a:t>
            </a:r>
            <a:r>
              <a:rPr b="0" lang="ro-RO" sz="1800" spc="-1" strike="noStrike">
                <a:solidFill>
                  <a:srgbClr val="161616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din CD Resurse, Modul 3, Activitatea 1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ntr-un </a:t>
            </a:r>
            <a:r>
              <a:rPr b="0" lang="ro-RO" sz="1800" spc="-1" strike="noStrike">
                <a:solidFill>
                  <a:srgbClr val="c00000"/>
                </a:solidFill>
                <a:latin typeface="Verdana"/>
              </a:rPr>
              <a:t>grup mic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gândiţi-vă cum aţi putea include Internetul în clasa dumneavoastră pentru a îmbunătăţi procesul de învăţare al elevilor în ceea ce priveşte documentarea, comunicarea şi colaborarea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18" name="Object 4"/>
          <p:cNvGraphicFramePr/>
          <p:nvPr/>
        </p:nvGraphicFramePr>
        <p:xfrm>
          <a:off x="4051440" y="4734000"/>
          <a:ext cx="1257120" cy="9619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51440" y="4734000"/>
                    <a:ext cx="125712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D2163-30C7-45DF-B89B-891B5DFACF67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7478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860a8"/>
                </a:solidFill>
                <a:latin typeface="Verdana"/>
              </a:rPr>
              <a:t>Modul 3: Realizarea conexiunilor</a:t>
            </a:r>
            <a:br>
              <a:rPr sz="1200"/>
            </a:br>
            <a:br>
              <a:rPr sz="1000"/>
            </a:b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Activitatea 2</a:t>
            </a:r>
            <a:br>
              <a:rPr sz="2600"/>
            </a:b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Discutarea aspectelor legale şi etice cu privire la utilizarea tehnologiei </a:t>
            </a:r>
            <a:r>
              <a:rPr b="1" lang="ro-RO" sz="1200" spc="-1" strike="noStrike">
                <a:solidFill>
                  <a:srgbClr val="0860a8"/>
                </a:solidFill>
                <a:latin typeface="Verdana"/>
              </a:rPr>
              <a:t>(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</a:rPr>
              <a:t>45 minute</a:t>
            </a:r>
            <a:r>
              <a:rPr b="1" lang="ro-RO" sz="1200" spc="-1" strike="noStrike">
                <a:solidFill>
                  <a:srgbClr val="0860a8"/>
                </a:solidFill>
                <a:latin typeface="Verdana"/>
              </a:rPr>
              <a:t>)</a:t>
            </a: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25480"/>
            <a:ext cx="853128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 1: Investigarea dreptului de autor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(3.04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860a8"/>
                </a:solidFill>
                <a:latin typeface="Verdana"/>
              </a:rPr>
              <a:t>Legile cu privire la drepturile de autor se bazează pe premisa că orice persoană care creează o operă materială originală merită să fie protejată şi recompensată. Oamenii au dreptul de a controla modul în care activitatea lor originală este utilizată de alţii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7f2e00"/>
                </a:solidFill>
                <a:latin typeface="Verdana"/>
              </a:rPr>
              <a:t>Profesorii trebuie să înţeleagă ei înşişi şi să-i înveţe pe elevii lor cum să utilizeze materialele care fac obiectul dreptului de autor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Parcurgeţi şi completaţi testul (6 itemi) privind drepturile de autor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Vizualizaţi prezentarea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 “Haosul Drepturilor de autor”/ ”Copyright Chaos”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23" name="Object 5"/>
          <p:cNvGraphicFramePr/>
          <p:nvPr/>
        </p:nvGraphicFramePr>
        <p:xfrm>
          <a:off x="4057560" y="131760"/>
          <a:ext cx="1133640" cy="8859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5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57560" y="131760"/>
                    <a:ext cx="113364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6"/>
          <p:cNvGraphicFramePr/>
          <p:nvPr/>
        </p:nvGraphicFramePr>
        <p:xfrm>
          <a:off x="5600880" y="127080"/>
          <a:ext cx="1215720" cy="9493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2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00880" y="127080"/>
                    <a:ext cx="121572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Object 7"/>
          <p:cNvGraphicFramePr/>
          <p:nvPr/>
        </p:nvGraphicFramePr>
        <p:xfrm>
          <a:off x="7134120" y="154080"/>
          <a:ext cx="1052640" cy="76680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2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134120" y="154080"/>
                    <a:ext cx="105264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9ED89-FC4E-47AF-BAD4-C1E627B08C1B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 3: Realizarea conexiunilor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ctivitatea 2</a:t>
            </a:r>
            <a:br>
              <a:rPr sz="26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 Discutarea aspectelor legale 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şi etice cu privire 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 utilizarea tehnologiei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5760" y="2019240"/>
            <a:ext cx="8237520" cy="36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Pas 2: Citarea surselor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(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3.05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Vizualizaţi resursele bibliografice şi exemplele din directorul Modulul_3/Activitatea_2/Lucrari citate/Sablon referinte APA) de pe CD-ul cu resurse curricular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Salvaţi formatul de bibliografie, formatul MLA sau formatul APA în folder-ul suport_unitate în portofoliul dumneavoastră de exemplu cu numele Bibliografie sau referinţe (MLA= Modern Language Association; APA= American Psychological Association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Păstrează fişierele deschise pentru următoarele activităţi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05:19:46Z</dcterms:created>
  <dc:creator>Kristen Merrill</dc:creator>
  <dc:description/>
  <dc:language>en-US</dc:language>
  <cp:lastModifiedBy>user</cp:lastModifiedBy>
  <cp:lastPrinted>2006-11-14T00:45:04Z</cp:lastPrinted>
  <dcterms:modified xsi:type="dcterms:W3CDTF">2010-12-04T06:52:28Z</dcterms:modified>
  <cp:revision>309</cp:revision>
  <dc:subject/>
  <dc:title>Presentation Title Goes Here</dc:title>
</cp:coreProperties>
</file>